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B6DF-9907-411D-A392-C685DAA6B0E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959-C540-451F-90CB-1BF7F75D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0C9-95B2-429F-B23B-9B71A0EE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4FD-176A-474B-9497-33EEAEA7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022-26FE-41BD-BC15-46041F75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B508-A520-459A-BD17-084E0E24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1A86-E1B0-4FA0-9B64-7596C7B3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8CF7-1430-4F6F-9403-D30FD921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27E5-11D2-4155-8D74-DC1553FD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1077-6DA2-40E1-AE57-FD6BEE0B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F700-1572-430C-9C6D-CF54FD55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1CF4-3FEE-472D-9CD2-F36F9D9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50A-587E-470F-A409-40530CC4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9D87-AF3B-451B-AD8D-BA3FFC0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0C1C-CD8F-407C-8D95-3093CEB4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0E67-3E4C-4108-8197-BE2C9AE9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C314-EF08-480D-B50E-C82401CA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8AAA-9E26-4A25-9B26-3CA650C4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7EE-1B8B-4477-897F-464C3E8D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90E-CF87-4A86-B603-D8801C87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A3D-6E03-4CED-929F-BE1F366B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F27-702D-4C1C-A0A1-3E2C701D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CCA-197E-43F4-AD04-7DDE944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A7F-B8CE-4211-8A14-39E746C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AF1-0D62-49EB-BCAA-B430E44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7B21-4398-42FE-AC68-8FAD6A43AD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13A4-2E7D-40AF-B3F6-9FB74A1F63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e: Resumen de algunos elementos traza particularmente útiles en petrología I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e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6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incompatibles que subsitutyen K en K-felds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120" y="3317760"/>
            <a:ext cx="59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menos fácilmente en Hb que en K-felds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080" y="3852720"/>
            <a:ext cx="638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K-f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0-03T05:16:58Z</dcterms:modified>
  <cp:revision>1</cp:revision>
  <dc:subject/>
  <dc:title>Diapositiva 1</dc:title>
</cp:coreProperties>
</file>